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98FA1-B51D-4C70-B544-EC84176B8E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A8E07-D9A4-4FAA-A890-AE73D9AFE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4160E-0145-4448-8E3A-634DE22AD9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te Label” refers to the fact that the wiki spaces contained therein can only be accessed and viewed via a District sign-on with a  current username and password.  These wikis are not able to be seen via a typical Internet 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97C04-62D9-43DF-B3B4-306802E3AF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Sign-on is a convenience for staff and students to access Gmail, Google Docs and Calendar and the West Shore Private Label wik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Activity - Have participants log in to District Moodle site via Safari web brows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9A77D-D5AC-4F6F-B314-377A0627DA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tart Page, you can access other teachers’ Moodle pages for their cla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learners that they can contact other teachers in the District for their Moodle page enrollment keys to share lesson ide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9522A-D070-49BF-BBA3-8917565CD6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s are encouraged to go to the commercially availabl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ikispaces.c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for ideas for the wikis in their classro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 around during the activity to offer help and ass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67F6D-3295-417F-87BD-99329C2E35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ki names must be made up of letters, numbers and hyphens with no spaces and it cannot start with a hyphen.  It should be easy for your students to rem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participants create a new wiki space using the name that they created in the last st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4FB62-F22C-4679-BA9A-F369D7DF5F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7C3-BF47-428A-B0EF-4B42186A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E66-A79F-4803-B4C9-F2CC2050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FA7BFC-0B11-4AAE-B486-D8ACA7A4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07BB07-D137-4426-866F-C59B2076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6EC804-C253-4132-85C3-B0116CBD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037DD0-D324-47E9-B433-4CBF102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EBCD56-CF7E-4B5F-A649-9F2A2369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0E47D5-5526-47B4-887A-0954CF26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B45D6E-14C5-4776-AB1B-102C5FA7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30EF22-4AD8-48C1-A59D-92DB1273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5071A4-2576-4B03-8C7B-C9EE30A2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FC6645-BED3-4116-AF71-472C43B3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6C8-7856-4731-AD3A-B8EBB5D2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40C979-1F89-4D98-986C-F00C28D8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629871-2F16-4FEB-8E2F-B9A5DC75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6CBBCC-6A3B-4C15-AB10-AA683989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7BEB83-A254-4C46-A3B8-260BC454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7B76F4-D638-4908-89F2-7F32E09D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E8D561-0B6C-4669-978B-E6212FFE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278114-9D41-4DF0-9FC7-0B01B9D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5C66BC-C824-4C50-8540-065791AA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A41B4D-DEC1-47F2-B50A-AC4BF2ED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6D1352-0B35-4FCC-8374-F3CD5FEB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A0F-3A7F-45AA-BC9B-91AB5209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738335-8115-45A2-93EA-5ABF0CE0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5A7165-8E1A-4BE3-8928-65E85ABC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5B6942-EFCB-40E9-B365-5DE089C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94D515-F7DB-4339-A3D5-1079A1A5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FBFE7E-693A-475E-B04D-C91C3E26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00D0AC-8122-4038-86DD-4A207E50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3B9482-9D96-4422-95B5-B94B6526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1082D6-7492-4610-874E-91680CA0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B8C9DF-E8C2-45EC-935A-A84C0279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548A2B-BEE1-452C-BE2A-53854D74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A8A424-9C3D-4809-AB23-7434C809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5660D8-0711-4DFE-9388-A489E246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7C2AE6-1641-4D70-B342-1BFC6D39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4E40CD-E58E-4CE5-B5B6-CA3E9A55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0B31A8-343F-4C8C-9F4D-56C00F6B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B5AFFD-B9A3-4FB7-A063-72F8A7B2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10F035-5A5A-4657-8CE1-8562E1E5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34DB7B-1D34-4705-B4F8-4D3C178F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7C2B0F-7F8F-4F31-AF3A-C77578F1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842900-90BA-435E-BCAF-49EC5DF4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4FECE3-12E3-4B31-B365-6240133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838CCA-4FC0-42C5-B9D1-60CB57D7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8D5966-5A40-4CC9-95A2-57410F65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ACC931-1406-4263-9DBD-0247A633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BD035E-2362-4B4D-B27F-AA499B9D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F36-3BF1-4649-873F-AD9E7BB9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3BB58-68F6-4AA2-8489-C074E508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FEDF1-CA93-45CD-B61A-4706129A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C7021-7A49-469E-A2DE-09F575C9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8DEAA-8B5A-478B-874C-D0112612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73EC4-4DA7-46C5-A2B5-5C958788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43E-0C72-4697-8964-6DC7194C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E7817-F3D3-45AC-8279-F3552DED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376EC-D4BE-44F3-BAEF-A7FA3172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D746A-F053-4D67-AF6E-55465A27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DB67C-A8DC-4212-B2A6-88C57141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3BF62-438E-4A70-B00E-F4887D59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2D969-D329-4820-9121-D1CD3DD0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EA5FC-9A31-45B4-BB96-DA37C959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41F71-9B0D-4806-AA60-D1328225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AF34F-4E40-41DF-9606-74CB152F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51EBA-986B-4CCA-B0CF-103150A1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BA7-ED14-495D-A388-E6260DF8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B7C4E-00DC-4B01-9323-CDD35A20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085EB-DBA7-42CF-8D9F-14138011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91399-E09B-4970-8837-5AA8DE72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F528D-E2ED-4BB7-BE2A-351A370D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3AFC6-BDAD-4D50-8D8B-80274DA6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6AF9D-376E-408C-8ED2-8A31C1C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8C7295-F521-4E9C-9391-011D8809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6447D-3199-430B-AAAD-F1F90619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E9EBF-1014-4EFF-B2EB-189BCC62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36CA1-BD56-4727-921A-1F991FF1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C3B-9F52-4B47-8C02-2DB69D65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91A79-209D-47B7-94E0-A66A5BE5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A28AA-B7AA-4C7C-90D7-7D52D428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DBF20-72EC-45BD-BE24-ADE5BA6F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FA035-0C4A-4360-BC83-9AE5918C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D6D0E-047D-485A-9BB8-BF1FFEDB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3750C-BDBA-4E0A-84A3-95509748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F75B3-2F2E-49DE-AB0D-12CD0BD2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CF2B3-4681-496A-A13B-230CE142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5161A-3F25-4F29-B12A-9609E752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8F684-5B77-455C-93CC-AAE5F4BF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8E4-6BD5-4F05-8ADE-E112D81C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62578-FA8B-4B3A-A1D1-BFBFCAE3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812E3-CE1D-464D-AEEC-2EE96B3E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808DE-94DB-4097-A02D-5140C7C2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6184A7-7616-4129-8735-8EB8F78E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E8BE9-D141-4349-B5CF-CB88459E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F898C-5759-4D1A-806F-072AA1E0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71B96-4E99-4727-ABA6-3C26ACEE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C394B-EF3A-49E7-9B83-9F3D276E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47375-201C-404C-BCE5-BA8D3EEA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2C4D6-9ACA-42F0-8E32-783B01CC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1B2-5ADF-43E2-824B-C8C88E62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F753A-29FD-4DD3-990E-A1EA3D36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F9B15-BE1C-45E4-B0BB-A4CF7F7E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AD757-927D-4152-BD05-1533FCAA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691EB-D95C-4503-8F61-F4D1C3A2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6A2C65-AA56-42D8-89BA-2B5E9967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038F5-12B7-4E01-BF4F-70D6A3C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85DD0-BD6C-4454-B509-B03AF7C7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CA0F2-A09E-4F58-A233-5B3FF3DC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20443-ACE8-4AAB-A076-CCF3C35B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D8EE8-9FA7-4A14-A717-42F2EB69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E09-7CC1-4296-95E5-087ED58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09832-4741-4FD2-BF7F-2E3F4C3C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50769-5513-4577-8523-55A7B79B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939D4-3EBC-4118-8BA1-6AD07BEC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AFEB9-7C61-45FD-8175-E85CACC3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06720-B334-4A06-ADBD-50B9D900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369B17-C1B8-4751-A508-3DB33F75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78FAFF-ACFE-4424-85F1-867C17C5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F9183-1592-488A-8BDF-DDEF3496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58BA8D-2A04-4E70-95D0-F9B6F031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7A2F1D-0DBD-4091-A717-0E95A7E5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DC3-B31E-4513-8FA0-2B5FBC18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3040DD-C24A-4EF0-924F-278D994C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9FB2B8-6AA2-44AB-9326-ADAA65E7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5EDBE0-B241-4945-9C54-C39E12A1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8929B0-CDB0-4A47-ADC2-898CC596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51EBA0-A071-4D7B-B7EC-EE734262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5C82A7-99F6-4B26-89EA-F8286428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A2744F-8E84-473D-8965-A2093410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43AA78-9F5C-4480-8742-3ADC1A3E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BC7BEF-FFD0-43BA-BF01-96C31283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498792-03A2-472D-BA91-3B1117CC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ast updated on </a:t>
            </a:r>
            <a:fld id="{9FB7FC8A-20D2-44E9-835A-B7ED27C93F69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fld id="{BF3D879A-FF09-47CE-ADD5-EB0009CCC69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7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AC8DD-2FE2-474C-B1A1-7A2D46942D2C}" type="datetime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8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Slide 2-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9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434DC-15B4-4678-A7FD-9AFE9FEC18AC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E9F76-22D7-4BA3-8D5E-ACC96C34E21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2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A0CC7-E2B2-4698-87DC-AF5C0BAA449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4A6C8-1CCC-4948-A62C-564C43463546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5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8488F-E3C3-4A44-90F7-98DEC28FACDF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1F418-ED49-4145-9223-2BEA9A65D1CA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B34F5-D02C-4CC2-9876-2B0571F9CAAF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095B4-246A-418B-9F30-EE682158B65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28500"/>
              </a:gs>
              <a:gs pos="100000">
                <a:srgbClr val="b4ed7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3F328-6191-45CD-A24A-7D41B9AFA70A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99247-E9F0-4EE0-85B2-3472F5437C16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FB663-D553-4813-82C2-449705BF035E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2B150-A35E-428C-A682-686AC2EC0C7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C38C6-19CA-48A4-B020-780A16415088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88E44-A492-4B4D-B711-1B74D1878D3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1E647-C65B-43FC-96B0-DB6A97379C58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0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A1581-9031-4DC8-8151-BE3A67E044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bd7f8">
                  <a:alpha val="1176"/>
                </a:srgbClr>
              </a:gs>
              <a:gs pos="100000">
                <a:srgbClr val="bbd7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bc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c2c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EF4AC-2835-4510-8BE9-FB50B104B880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3"/>
          </p:nvPr>
        </p:nvSpPr>
        <p:spPr>
          <a:xfrm>
            <a:off x="7189560" y="6481800"/>
            <a:ext cx="903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4E6F8-AB2B-4A3E-AAE9-9D53134F02D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d9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d95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80b60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80b60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80b6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ccc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4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F68D2-6396-4C38-BBA5-E1909A6F6873}" type="datetime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5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lide 2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6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B48D1-EBF2-4026-A551-5EFBD4A92C0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wikispaces.com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527" name="Subtitle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1768320"/>
          </a:xfrm>
          <a:prstGeom prst="rect">
            <a:avLst/>
          </a:prstGeom>
          <a:ln w="0">
            <a:noFill/>
          </a:ln>
        </p:spPr>
      </p:pic>
      <p:sp>
        <p:nvSpPr>
          <p:cNvPr id="528" name="TextBox 9"/>
          <p:cNvSpPr/>
          <p:nvPr/>
        </p:nvSpPr>
        <p:spPr>
          <a:xfrm>
            <a:off x="7696080" y="629928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530" name="Content Placeholder 3" descr="138433090_81999aa620.jpg"/>
          <p:cNvPicPr/>
          <p:nvPr/>
        </p:nvPicPr>
        <p:blipFill>
          <a:blip r:embed="rId2"/>
          <a:srcRect l="-17495" t="0" r="-17495" b="0"/>
          <a:stretch/>
        </p:blipFill>
        <p:spPr>
          <a:xfrm>
            <a:off x="457200" y="19144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4"/>
          <p:cNvSpPr/>
          <p:nvPr/>
        </p:nvSpPr>
        <p:spPr>
          <a:xfrm>
            <a:off x="914400" y="621036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Photo used with permission from:  http://farm1.static.flickr.com/52/138433090_81999aa620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11"/>
          <p:cNvSpPr/>
          <p:nvPr/>
        </p:nvSpPr>
        <p:spPr>
          <a:xfrm>
            <a:off x="7696080" y="640728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457200" y="18824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single sign-on to Moodle allows users to acces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ogle Calend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ogle Do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st Shore Private Label Wiki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7696080" y="629928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457200" y="595476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A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538" name="Content Placeholder 4" descr="Picture 1.png"/>
          <p:cNvPicPr/>
          <p:nvPr/>
        </p:nvPicPr>
        <p:blipFill>
          <a:blip r:embed="rId2"/>
          <a:srcRect l="0" t="-1363" r="0" b="-1363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3"/>
          <p:cNvSpPr/>
          <p:nvPr/>
        </p:nvSpPr>
        <p:spPr>
          <a:xfrm>
            <a:off x="7696080" y="640728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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ternet Activ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Century Gothic"/>
                <a:hlinkClick r:id="rId2"/>
              </a:rPr>
              <a:t>www.wikispaces.c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on Sign In and create an account using your District email accoun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arch for wikis in your teaching are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You will have 5 minutes for this activ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42" name="Content Placeholder 12" descr=""/>
          <p:cNvPicPr/>
          <p:nvPr/>
        </p:nvPicPr>
        <p:blipFill>
          <a:blip r:embed="rId3"/>
          <a:srcRect l="-11479" t="0" r="-11479" b="0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3" name="TextBox 3"/>
          <p:cNvSpPr/>
          <p:nvPr/>
        </p:nvSpPr>
        <p:spPr>
          <a:xfrm>
            <a:off x="7696080" y="645480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3857"/>
            </a:gs>
            <a:gs pos="100000">
              <a:srgbClr val="647e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istrict Private-Label Wik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on “Make a New Wiki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aming conven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80b60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Letters, numbers and hyphe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80b60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 spac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80b60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annot start with a hyph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80b60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asily remembered by stude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7696080" y="6299280"/>
            <a:ext cx="7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-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457200" y="5987880"/>
            <a:ext cx="35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A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5:22:44Z</dcterms:created>
  <dc:creator>Teacher</dc:creator>
  <dc:description/>
  <dc:language>en-US</dc:language>
  <cp:lastModifiedBy>Teacher</cp:lastModifiedBy>
  <dcterms:modified xsi:type="dcterms:W3CDTF">2011-03-29T15:36:51Z</dcterms:modified>
  <cp:revision>3</cp:revision>
  <dc:subject/>
  <dc:title>West Shore School District Moodle and Wikispace</dc:title>
</cp:coreProperties>
</file>